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7CB-CE55-45AA-8FE2-7A417FAB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F69-0BF6-422F-9390-C39E9542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7BA-DCBA-4EDA-9020-CE731E22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D14-C6CE-415E-AAE3-7B3747F0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5D7F-0E67-4559-AC9E-2BDE3541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C422-3CB8-408A-B42E-011AEF15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B92A-4B06-4914-B6F5-5A37C1B1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D984-2472-427C-872D-69ADBE6E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FD7B-A1FA-4D13-AB90-D75D2130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A7CE-1084-4CF5-9354-02805A00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9DB2-3429-4412-8A35-8568BD58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092-3997-4307-AEC0-39C71F77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97EA-02DA-41CE-9F34-7284D1C7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EB16-7BF3-4828-B843-CB600B79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9833-C722-4D47-9AD9-0F0B7D3C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5B92-234E-4F8A-B510-8D63DECA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69A0-28F3-49CE-A8BB-429D36C7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4BC44-225C-4124-94C4-D31C8BE7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699EB-F5C0-42BE-9DB2-F28CE436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F0BDE-6723-4AEF-9FD2-526C6D8F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1B073-2B2B-448B-BF58-7060B13B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28171-BF26-4570-9E39-2DF2B6CF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1C9-2100-4808-8267-E12623BD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599FB-FEFB-42CB-8161-92EE0391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E2295-5F6B-45A8-9105-BEE0B96F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4673B-2660-4107-9DD8-B5567D98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9FE36-88F9-4ECB-89D8-8B5A6ABC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3AE16-CFCB-46B3-9979-2EE42F06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4E26E-B2F2-4123-99D6-E8DD94BE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A60E3-B6DC-4D92-ACBF-C38F9B56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8D81-64A0-4029-B85F-586B623D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9FA9-70B6-4102-89E9-FF4FA730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8417-25C9-4ABB-A74D-979EF455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841-AEB3-4823-B073-50E405C0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94B5-23E8-4483-BA95-C4D3873A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4297-D8FD-4EBB-B0D5-E2D2455F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4283D-E5AC-4432-B9B5-2D161453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9FCA-8E36-4ACE-81ED-F744D229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50E0-5235-499A-A87A-33D1ECDD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95D1-D7DF-43AF-8B43-D6DB2A2B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B680-0042-4E33-AC78-7BCC5130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E5F4-3EDA-41C6-8D9D-ACE19BB6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CF0F1-7095-463B-8270-B2A4BDB5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8ADC6-316D-46CE-8FA0-E3C4F9A4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E82-D50F-4564-99DA-0F8F3646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2B008-D3D5-4D7F-9902-05EE5027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A7BEE-1067-4DE0-971D-4508C8EC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AC9EE-0356-4A88-91F9-836AF90E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59A19-6EB3-48C4-B622-785EBEB4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29566-D26E-4FCD-A424-1CDF1161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2E302-679A-4B1F-97B3-03402E8A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C7B39-3E7F-41B3-9271-E4CB9ACF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0FCE7-DC67-44CA-8AEB-8B9D3C60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10219-1D89-459A-9C59-996EF62F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B1F72-5DC7-44E1-A47A-EB2B0848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3F3-6CCD-4D30-AF2A-40B87B98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28247-D350-459B-B31C-068D66D5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042CC-3508-43F3-89DF-015D4FA3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8A566-A10D-4569-8758-0743324A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005C3-02F1-4ACB-8806-9126F713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7D5DF-B483-4FB3-8DDA-A718FF1B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EA964-3547-44AA-BF7E-01FA58A1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86446-67EF-4B62-9DD3-B2E6694E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A67BE-DC94-4DFE-8508-64772BE6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010C7-9068-4B81-808A-663213F2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3D90BE-36A0-4616-8AE0-192BEA1C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467-6209-4E26-91D3-1F3E9003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D0889-A6EA-4745-81F1-4943CD66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754FE-7247-4AD4-9508-BCDE82BE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1D990-0FF5-4462-A467-73019979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4F707-E49A-4F8E-8415-CC1FB5D0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95488-A8E5-484A-AD43-37B72378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E0200-2AE9-4C6C-B19F-48C9D07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FD355-5A0D-4A49-86A8-4EE69C39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3492E-49E3-4C6F-AD6C-A884BA92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3B70D-DF2C-49BD-8310-10659B36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963A76-0503-468B-BDBC-7775144D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207-69C1-4301-9407-A93064C6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BACFF-855B-4546-8FF8-681A8F94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BEB57-154D-495E-B4DC-71964669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64F5F-7D66-40B4-A2C4-6ABA3A8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BFB64-9201-44D3-9309-2570F0CF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72534-766E-47D9-868D-2EB1DA8D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997-9F7D-433E-81CF-B93BBFD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416FF-DB7A-4E77-86B0-E662EE8778FF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04488-CE25-4540-8F77-75294E9684A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CCDC2-5030-49D7-9B3C-F1753CFF6E9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5DEF0-EEAF-482F-AF4E-CDAA3663FD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C8900-5B44-4F0A-83AA-70D55934184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844EC-927A-49AA-9A46-83123E70101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77339-2EFC-43AE-BFC6-68DA3B52E540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88CF8-C782-464F-99B6-C01315B7C8D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3CC06-9A84-4D95-88B2-53BF9243DA5B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4BA69-B22E-40FD-AEA9-ABD7497E22D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B36C3-AB4E-4333-AE94-78052556D2F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B39E8-5501-4C8C-8A12-1CF6F2497FA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14A6B-3186-4B98-BF69-7112992F743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F57C3-43FE-48BB-8208-5818A9AEF7E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EATING DISORD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Anorexia, Bulimia and Binge Eating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Century Schoolbook"/>
              </a:rPr>
              <a:t>ANOREXIA,  BULIMIA OR BOTH</a:t>
            </a:r>
            <a:endParaRPr b="0" lang="en-US" sz="4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Binge eating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Extremely low body weight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Excessive exercise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Ruptured esophagus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Body image issue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6708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Starvation 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Loss of hair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Eating in secret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Laxative abuse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Inpatient or Outpatient treatment option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Century Schoolbook"/>
              </a:rPr>
              <a:t>ANOREXIA NERVOSA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Content Placeholder 50" descr="Ana-Carolina-Reston.jpg"/>
          <p:cNvPicPr/>
          <p:nvPr/>
        </p:nvPicPr>
        <p:blipFill>
          <a:blip r:embed="rId1"/>
          <a:srcRect l="0" t="-28365" r="0" b="-28365"/>
          <a:stretch/>
        </p:blipFill>
        <p:spPr>
          <a:xfrm>
            <a:off x="612720" y="465120"/>
            <a:ext cx="3657600" cy="6718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haracterized by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tense fear of gaining weight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ow body weigh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Distorted/unrealistic view of ones body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elf-starvation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Century Schoolbook"/>
              </a:rPr>
              <a:t>ANOREXIA NERVOSA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ltural- Perfect bod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ppearance-oriented professions or activi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mily- Critical, family history of anorexi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onality- perfectionist, need to be in contro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eighing food and counting calori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 eating or eating very litt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ver exercising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ving food around on plate instead of eating 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eighing self multiple times a da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earing baggy clothe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WARNING SIG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entury Schoolbook"/>
              </a:rPr>
              <a:t>ANOREXIA AND THE BODY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Content Placeholder 4" descr="anorexiafaqdia06.jpg"/>
          <p:cNvPicPr/>
          <p:nvPr/>
        </p:nvPicPr>
        <p:blipFill>
          <a:blip r:embed="rId1"/>
          <a:srcRect l="-11543" t="0" r="-11543" b="0"/>
          <a:stretch/>
        </p:blipFill>
        <p:spPr>
          <a:xfrm>
            <a:off x="-247680" y="1600200"/>
            <a:ext cx="8874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5f6d"/>
                </a:solidFill>
                <a:latin typeface="Century Schoolbook"/>
              </a:rPr>
              <a:t>BULIMIA NERVOSA 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Content Placeholder 4" descr="bulimia_nervosa.jpg"/>
          <p:cNvPicPr/>
          <p:nvPr/>
        </p:nvPicPr>
        <p:blipFill>
          <a:blip r:embed="rId1"/>
          <a:srcRect l="0" t="-28271" r="0" b="-28271"/>
          <a:stretch/>
        </p:blipFill>
        <p:spPr>
          <a:xfrm>
            <a:off x="457200" y="527040"/>
            <a:ext cx="3657600" cy="6923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racterized b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requent episodes of binging followed by purg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nstant struggle between staying thin/ loosing weight and the overwhelming compulsion to binge ea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cessive exercising, fasting, or crash dieting vs. purging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575f6d"/>
                </a:solidFill>
                <a:latin typeface="Century Schoolbook"/>
              </a:rPr>
              <a:t>BULIMIA NERVOSA </a:t>
            </a:r>
            <a:endParaRPr b="0" lang="en-US" sz="6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or body 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story of trauma or abu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ppearance-oriented professions or activi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ack of control over eat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ating in secret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isappearance of fo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Going to the restroom after meal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Using laxatives, diuretics or enema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mell of vom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requent fluctuation in weight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entury Schoolbook"/>
              </a:rPr>
              <a:t>CAUSES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entury Schoolbook"/>
              </a:rPr>
              <a:t>WARNING SIGNS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575f6d"/>
                </a:solidFill>
                <a:latin typeface="Century Schoolbook"/>
              </a:rPr>
              <a:t>BULIMIA AND THE BODY </a:t>
            </a:r>
            <a:endParaRPr b="0" lang="en-US" sz="5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Content Placeholder 5" descr="bulimia.gif"/>
          <p:cNvPicPr/>
          <p:nvPr/>
        </p:nvPicPr>
        <p:blipFill>
          <a:blip r:embed="rId1"/>
          <a:srcRect l="-11091" t="0" r="-11091" b="0"/>
          <a:stretch/>
        </p:blipFill>
        <p:spPr>
          <a:xfrm>
            <a:off x="-217440" y="1600200"/>
            <a:ext cx="87361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75f6d"/>
                </a:solidFill>
                <a:latin typeface="Century Schoolbook"/>
              </a:rPr>
              <a:t>TREATMENT OPTIONS FOR EATING DISORDERS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Content Placeholder 4" descr="help.jpg"/>
          <p:cNvPicPr/>
          <p:nvPr/>
        </p:nvPicPr>
        <p:blipFill>
          <a:blip r:embed="rId1"/>
          <a:srcRect l="0" t="-43926" r="0" b="-43926"/>
          <a:stretch/>
        </p:blipFill>
        <p:spPr>
          <a:xfrm>
            <a:off x="457200" y="-250920"/>
            <a:ext cx="3657600" cy="8334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OREXIA- healthcare team of doctors, nutritionist and therapi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LIMIA- cognitive-behavioral therapy (change thoughts=change behav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patient vs. outpati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13:10:36Z</dcterms:created>
  <dc:creator>Howard County Administrator</dc:creator>
  <dc:description/>
  <dc:language>en-US</dc:language>
  <cp:lastModifiedBy>Howard County Administrator</cp:lastModifiedBy>
  <dcterms:modified xsi:type="dcterms:W3CDTF">2014-10-10T13:07:44Z</dcterms:modified>
  <cp:revision>33</cp:revision>
  <dc:subject/>
  <dc:title>Eating disorders</dc:title>
</cp:coreProperties>
</file>